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57AC-D594-4F2B-B06E-BD35650B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F953-6F4C-486B-9620-B210C962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7A09-731E-4640-A38F-483B231D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F7AD-A3C3-40E6-AA49-AE8D2A81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C820-9B2A-4B66-8573-B1C42F5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BF91-1EF6-4A6A-A090-2A2F4D18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5605-73E7-4D1B-AD33-1BF641CA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768-E05A-4EF6-8691-997F7A91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BB3D-0AB2-4574-9326-B28E0103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BE68-B17E-49D4-9C37-399F0068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B240-D505-44D9-95E0-7D635F18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89F4-8182-4048-831A-724C6616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7AF-FECF-40AC-AADD-6E74C023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A6E3-1018-45AC-8942-30A0486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1854-C361-40B1-91F2-197F5A6C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DC77-1680-42D2-B587-B948955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AC5E-0848-4554-85CF-83168C37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B27-3A61-4C25-8A59-64FDF660C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A5F5-D669-4449-BFD8-672C5433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E93F8-93EA-4B10-90F2-94E4CF9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6750-32B9-4D58-A93D-4A388058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0126-C15F-451E-93E7-5539F250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4E8A-BC53-4A7A-AA9E-DF41532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6430-A3DA-4A9A-AE37-0A12BAB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26A56-0074-4829-AB6C-B03C80ED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69CA-0F57-495C-AD75-64F12DE3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397C-7CD5-444E-8AAC-9B3C6C2F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1D64D-F608-4855-B793-023E0A9A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A582-79C7-49DF-86E0-77ABBDA0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5E546-B3A4-409B-8A27-61F3591C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55B99-CC26-4E6D-94F3-0DDABFEB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CE257-2E7B-4FC0-AF85-E0A1E170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486219-9F12-46AF-8F7D-C8244DCAC0D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F5BF4B-D3C5-4FDE-A6AF-E85B31B16BC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B57EE-F405-40D8-A369-0AE4743B1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412C-818A-4EF4-A9C3-26AC0661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3F51F6-72DA-4C99-B603-CE53217436B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2D9099-5C5B-4C5E-8F9C-2FDE025BF9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87DB9-4953-4CB0-B7F5-7048B0A421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042F93-4472-4666-A5D2-7CD69E0C92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9AA924-7BAD-4E14-A83D-FE537D4BF8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5542A2-DB10-402E-B41D-208D75DE56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70B20D-625D-418F-A8F1-5C9879DAF2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266453-EA5E-4AA5-90A4-CD92BA2945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E6FA8-46E6-4249-971B-98CF8E7B85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CC197-0649-4C6C-88B7-718423EA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58F2B-D93B-4D41-90DD-0332C120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CDEF-1481-406C-AB67-C099C6A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920F7-A4F2-4483-805B-AA3798BE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F401-4F6F-43FE-8E50-1D84C43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9CF4-5247-4500-98A3-973F9ADE0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A89A-3E27-4B10-B12E-440197B0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321-B9FF-4C9C-8607-6AF0A020D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3472-AECD-4B61-9A29-894CCAEBA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ldNum" idx="10"/>
          </p:nvPr>
        </p:nvSpPr>
        <p:spPr>
          <a:xfrm>
            <a:off x="4343400" y="6568560"/>
            <a:ext cx="4572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EED5-AB4F-4EE1-B63F-F016526C7F9C}" type="slidenum"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54000" y="65278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b6770"/>
                </a:solidFill>
                <a:latin typeface="Arial"/>
              </a:rPr>
              <a:t>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1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EC06-AC55-435C-9B83-B3BBC6D3A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94171"/>
                </a:solidFill>
                <a:uFillTx/>
                <a:latin typeface="Arial"/>
                <a:ea typeface="Times New Roman"/>
              </a:rPr>
              <a:t>Profiling Working Group (PW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Update to 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  <a:ea typeface="Times New Roman"/>
              </a:rPr>
              <a:t>January 13, 20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am Pak (Onc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Steve Pliler (Vist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294171"/>
                </a:solidFill>
                <a:latin typeface="Arial"/>
                <a:ea typeface="Times New Roman"/>
              </a:rPr>
              <a:t>Co-Vice Chair: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Bill Snyder (A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6114-EA00-4A95-B350-7C9F55DE8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Discussion T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49280" y="1012680"/>
            <a:ext cx="846612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Merging of TX SET &amp; PWG into TEXAS SET/LP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-Chair leadership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out of Q1 2026 meeting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Sideline team reviewing draft LPGRR, Profile Decision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team has been meeting independently to review language, structure, and overall P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is to continue with core team review, and bring forth changes back to TX SET/LP WG for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is to present to RMS by end of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E59E-25FA-4E33-94AD-8FDE3650D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2280" y="1066680"/>
            <a:ext cx="8839440" cy="21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94171"/>
                </a:solidFill>
                <a:latin typeface="Arial"/>
              </a:rPr>
              <a:t>Tuesday, Jan 20, 2026 @ 9:30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WebEx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Combined TX SET &amp; P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Next Meeting TX SET/LP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Pak, Sam</cp:lastModifiedBy>
  <cp:lastPrinted>2025-09-04T20:28:26Z</cp:lastPrinted>
  <dcterms:modified xsi:type="dcterms:W3CDTF">2026-01-09T22:42:52Z</dcterms:modified>
  <cp:revision>1565</cp:revision>
  <dc:subject/>
  <dc:title>Instructions</dc:title>
</cp:coreProperties>
</file>